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3EB-3E47-4616-9840-480D0A17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47F-D1B6-4260-8DE1-E7B9E8E9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D75-3ECE-4C90-BDC9-16BEA81D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091-1908-4248-AF6A-9203BEF4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F215-84F8-4B08-9844-59EB0819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DFD3-AF96-4934-A9B6-7A3C90BD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0F37-82B8-4D24-B01A-1CBB262C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823F-D53D-4AA8-B816-74613631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C0FA-7EAD-4C28-9D93-2E9ED7A1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E279-5B4C-4506-8B36-B1288806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5B21-5382-44EC-80AD-49BC4769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89C-CAF7-44F4-99F7-93B70EAA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2D5C-834B-4866-A2F8-5572B82E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376E-4350-4D39-9442-2FC8ED00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A6A8-5264-4EE6-B049-2FBB5026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E8C1-B632-487A-BDC3-7D8B1DEC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052D-F194-4372-8AA0-C25390EE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659-444B-4B90-9EB3-A3A574DA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D3E-9540-432D-B752-098FC72F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D18-6D36-4CD6-8FEF-E501B313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0A7-E646-4CF5-829C-74EB883D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2B0-B633-4746-9335-89AB125E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26C-320D-4EC1-AC1C-0BFBA54B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C1E-33F1-4681-9181-C858F09B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4CD3-274B-4173-A731-E1859F8757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CF04-2857-4AC3-93E9-398CEB1011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f balls used to bee little feather pillows maid of l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700s and 1800s in Peru bullfighters were women which fought the bulls while riding horse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Journal #5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ous Writing: D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sustained stretching helps lenghten tight cramped muscles increases flexibility and prevents muscle strains tiny tears in muscle fi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rgest gold nugget ever found weighed about 200 pounds was discovered in 1969 near Ballarat Australia, and was nicknames Welcome Stra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Journal #6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nd contrast the ideas of “wisdom” and “knowledg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riday Warm-up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next five minutes, brainstorm as many words as you can that contain the letter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, h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longest word you came up with?  How many words did you think of that conta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ut don’t begin with any of those three lett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34:43Z</dcterms:created>
  <dc:creator>tpagel</dc:creator>
  <dc:description/>
  <dc:language>en-US</dc:language>
  <cp:lastModifiedBy>tpagel</cp:lastModifiedBy>
  <dcterms:modified xsi:type="dcterms:W3CDTF">2010-06-03T16:35:03Z</dcterms:modified>
  <cp:revision>1</cp:revision>
  <dc:subject/>
  <dc:title>Warm-Up Sentences</dc:title>
</cp:coreProperties>
</file>